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287-BA33-448D-9967-F543A3A6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354-B97B-4D74-AAFA-439BA88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840-7E90-4C3F-9AEC-627DFE33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FB6-955D-44D2-9533-4A461D4B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774-FC05-410D-8B95-95DCE12C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535-421A-4AE0-9BD6-AA3E2166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300E-FDFF-4261-81C2-8649CAB0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CDA-6A76-47E0-8397-0154EDB6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629-FA0D-4E87-B788-BAF03F76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277-C3D3-4095-B4A6-1154EDE1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CC05-7FF9-4D0E-912B-288ECE24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FE5-73B7-447C-A5E7-C5BA5837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69C8-15AC-46E5-BADE-D8127D2FD0CC}" type="slidenum">
              <a:rPr b="0" lang="sr-Latn-C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0336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Дистинкција између појмова: акутна интоксикација и злоупотр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57200" y="61070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руга недеља настав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457200" y="228600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111111"/>
                </a:solidFill>
                <a:latin typeface="Arial"/>
                <a:ea typeface="Arial"/>
              </a:rPr>
              <a:t>И12 -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ЗЛОУПОТРЕБА ЛЕКОВА И ЗАВИСНОСТ ОД ЛЕКОВА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944640" y="380880"/>
            <a:ext cx="740736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ОКСИК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ПСИХОТ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57000"/>
            <a:ext cx="306072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Хемотоло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Леукопе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гранулоци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ромбоцитопе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73400" y="1557000"/>
            <a:ext cx="306072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Офталмолош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игмента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игментна ретинопат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tent Placeholder 4"/>
          <p:cNvSpPr/>
          <p:nvPr/>
        </p:nvSpPr>
        <p:spPr>
          <a:xfrm>
            <a:off x="5977080" y="1557360"/>
            <a:ext cx="305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Остал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Холестатск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ктерус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игмента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ж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ПАРКИНСО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ТИБЕНЗТРОПИ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nal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ТОПРОПАЗИ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zotijaz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ЕТАЗИ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parc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ПЕРИДЕ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tinet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ВОДОПА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-do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ИХЕКСИФЕНИДИЛ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a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ИКЛИДИ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ip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ЕНГЛУТАРИН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МАНТАДИ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ymmetr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-ИНТОКСИКАЦИЈА АНТИХОЛИНЕРГИЦ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ДЕПРЕСИ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601640"/>
            <a:ext cx="4356360" cy="3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ВЕРЗИБИЛНИ ИНХИБИТОРИ М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8920" y="2160360"/>
            <a:ext cx="404028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КЛОБЕМИД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urom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2640" y="1601640"/>
            <a:ext cx="4041720" cy="3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РИВАТИ ИМИНОДИБЕНЗ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922640" y="2160360"/>
            <a:ext cx="404172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ИПР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ИМИПРАМИН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afran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МИПР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ИПРАМ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БЕНЗЕ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ТИДЕПРЕСИ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1380600"/>
            <a:ext cx="4356360" cy="5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РИВАТИ ДИБЕНЗОЦИКЛОХЕПТАДИ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8920" y="2160360"/>
            <a:ext cx="404028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МИТРИПТИЛИН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myz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2640" y="1630440"/>
            <a:ext cx="4041720" cy="3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РИВАТИ ДИХИДРОАНТА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922640" y="2160720"/>
            <a:ext cx="4041720" cy="18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79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ЛИТРА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АНСЕ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ЗАФ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ПРОТИ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КСЕП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ТРИПТИ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ЛОКСАЗИН ХИДРОХЛОР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ЛЕКТИВНИ ИНХИБИТОРИ ПРЕУЗИМАЊА СЕРОТОНИНА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S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ЛУВОКСАМИ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oks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ЛУОКСЕТИ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lunirin, Proza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КСЕТИ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olo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ЦИТАЛОПРАМ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pral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НЗОДИАЗЕП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59984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ПРАЗО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ОМАЗЕ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ЛОРДИАЗЕПОКС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ОНАЗЕП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ЗЕ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ОРАЗЕ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АЗЕ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ЗЕ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ТРАЗЕ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САЗЕ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МАЗЕП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ИАЗО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НЗОДИАЗЕП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ОКСИК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НЗОДИАЗЕПИН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НЗОДИАЗЕПИН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ПСТИНЕНЦИЈ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СИХОФАРМАКОТЕРАПИЈА СИНДРОМА ТОКСИКОМАН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А ОПИЈАТСК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ПСТИНЕНЦИЈАЛ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ПСТИНЕНЦИЈАЛНИ СИНДРОМ 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НАЛГЕТИКОМ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МФЕТАМИНСКА АПСТИНЕНЦИЈ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КАИН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ПСТИНЕНЦИЈ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ПСТИНЕНЦИЈ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АШИШОМ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ПСТИНЕНЦИЈ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НДР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ОТРЕБ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S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25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СИЛОЦИБ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СКА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НОТИАЗ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4038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ПИПЕРАЗИНСКИ Б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луфен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иопропер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рифлуопер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рфен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р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хлорпер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утапер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цетофен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рфен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ксафлумин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599840"/>
            <a:ext cx="403848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ЕНОТИАЗ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40384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ПИПЕРИДИНСКИ Б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иорид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зорид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перици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к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ипом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иперацет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ипоти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римет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типенд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599840"/>
            <a:ext cx="40384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АЛИФАТИЧНИ Б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м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лорпром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евомепм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рифупрлом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топром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цепром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лимемем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иамем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Етимем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ТИРОФЕНО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НИЛБУТИЛА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ИПЕРИДИНСК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Холоперидо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рифлуперид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опе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ромперид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енперидо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роперид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ипе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Мелпе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ипампе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ТИРОФЕНО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ФЕНИЛБУТИЛАМ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19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ДИФЕНИЛБУТИЛАМ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имоз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енфлури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луспир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мпероз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19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ПИПЕРАЗИНСК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Б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луанис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утропип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зопе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Фенапе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ПСТИТУИСАНИ БЕНЗАМ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822960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лпири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ултопри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иапри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мисулпири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ералипри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лизапри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моксипри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6152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474560"/>
            <a:ext cx="4040280" cy="36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ДОЛСКИ НЕУРОЛЕПТ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400"/>
            <a:ext cx="40402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ТИНД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КСИНД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ЛИНД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474560"/>
            <a:ext cx="4041720" cy="36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ТИПИЧНИ АНТИПСИХОТ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400"/>
            <a:ext cx="4041720" cy="19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ОЗАПИ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pon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АНЗАПИ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yprex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ИСПЕРИДО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sar, Rispole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ВЕТИАПИН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ok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9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РТИНДОЛ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dol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ЖЕЉЕНА ДЕЈСТВА АНТИПСИХОТИЧНЕ ТЕРАП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280" y="1600200"/>
            <a:ext cx="306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Допаминерги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истон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кати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аркинсониз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ардивне дискинез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алигн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L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синд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Хиперпролактин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нижење либ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инекомаст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алакторе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меноре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95640" y="1600200"/>
            <a:ext cx="306072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Холинерги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ентална конфуз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мањење акомод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лауком затв. уг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Тахикард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увоћа слузо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пстип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аралитички иле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тенција 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етроградна ејаку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048360" y="1600200"/>
            <a:ext cx="30607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Серотонергичка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раст телесне тежине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ЖЕЉЕНА ДЕЈСТВА АНТИПСИХОТИЧНЕ ТЕРАП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Хистаминерги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ед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ртостатска хипотенз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АЛФА-Адренерги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ртостатска хипотенз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мпонтен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9:39:13Z</dcterms:created>
  <dc:creator>User</dc:creator>
  <dc:description/>
  <dc:language>en-US</dc:language>
  <cp:lastModifiedBy>Slobodan Novokmet</cp:lastModifiedBy>
  <dcterms:modified xsi:type="dcterms:W3CDTF">2014-02-06T18:05:06Z</dcterms:modified>
  <cp:revision>32</cp:revision>
  <dc:subject/>
  <dc:title>     ANTIPSIHOTICI</dc:title>
</cp:coreProperties>
</file>